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hammer.wav" ContentType="audio/x-wav"/>
  <Override PartName="/ppt/media/image13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F84-EC52-4950-B881-1A14B73C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B11-FCF6-4233-BC54-93871011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8E1-B956-40C4-9E2C-DDC79BB5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8D7-65ED-4AD2-A590-F6A16426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6185-17EF-4790-8255-53BCF0EF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7C48-F6BB-4DF7-B93C-3DD98764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C1CE-0BD7-46A1-A671-E7F10CD7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E49E-29CA-423A-AFBD-DF0CC142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708E-8D32-4FDF-A8E2-80FED1EA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4F2C-9A3A-4513-A76D-72CD03E3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666D-8B43-4644-B684-883B0421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A0E-098D-498F-80F6-0027732A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0A24-105F-457A-8F48-CB112684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8F66-414A-46F4-BEB4-8FB94BA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BB86-A6F9-4D9C-B85D-E48890A0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FFDB-078D-4997-8492-BE1B1BE9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51F1-23B8-4C25-94BE-CFD3C37B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8B2-336C-4AFA-86C3-C6D5940A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90E-4E99-4CE3-9A0C-B67557C7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3E3-A707-4F0D-B067-0E825BB4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2A9-AB7C-4696-AE6F-ECF6008C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E7D-B9E7-4B62-8410-9BA9704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5DA-1E2A-4B20-A423-208481B4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AA4-92E7-4532-86E2-5D23398C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CA13-AF5D-4D7C-80C6-A447BF65E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A3E4-E9A0-4E1D-A70D-43398B0CE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Lady J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6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7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8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9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Sh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8460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89000"/>
            <a:ext cx="4732200" cy="3703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5041800" cy="1893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4076640"/>
            <a:ext cx="3956040" cy="131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354168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1800" y="228600"/>
            <a:ext cx="7338960" cy="587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341360"/>
            <a:ext cx="10080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9400" y="3382920"/>
            <a:ext cx="4284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b7e7ff"/>
                </a:solidFill>
                <a:latin typeface="Arial"/>
              </a:rPr>
              <a:t>Deck 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06480" y="1676520"/>
            <a:ext cx="5529240" cy="442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0320" y="1844640"/>
            <a:ext cx="6069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2T01:03:55Z</dcterms:modified>
  <cp:revision>39</cp:revision>
  <dc:subject/>
  <dc:title>Newton’s First Law</dc:title>
</cp:coreProperties>
</file>